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6044D-E691-4F67-8308-49B7EAD245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30240" y="741240"/>
            <a:ext cx="4937040" cy="3702240"/>
          </a:xfrm>
          <a:prstGeom prst="rect">
            <a:avLst/>
          </a:prstGeom>
          <a:ln w="0">
            <a:noFill/>
          </a:ln>
        </p:spPr>
      </p:sp>
      <p:sp>
        <p:nvSpPr>
          <p:cNvPr id="67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8F921-4129-4AA1-969F-70B46ADBE17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30240" y="741240"/>
            <a:ext cx="4937040" cy="3702240"/>
          </a:xfrm>
          <a:prstGeom prst="rect">
            <a:avLst/>
          </a:prstGeom>
          <a:ln w="0">
            <a:noFill/>
          </a:ln>
        </p:spPr>
      </p:sp>
      <p:sp>
        <p:nvSpPr>
          <p:cNvPr id="70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8E62D-AC01-462B-BA0D-430F7476D43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30240" y="741240"/>
            <a:ext cx="4937040" cy="3702240"/>
          </a:xfrm>
          <a:prstGeom prst="rect">
            <a:avLst/>
          </a:prstGeom>
          <a:ln w="0">
            <a:noFill/>
          </a:ln>
        </p:spPr>
      </p:sp>
      <p:sp>
        <p:nvSpPr>
          <p:cNvPr id="707"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to put us in context, RRT training as a whole, is an 8-day training that has four block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A – RRT in Context - </a:t>
            </a:r>
            <a:r>
              <a:rPr b="0" lang="en-US" sz="1200" spc="-1" strike="noStrike">
                <a:solidFill>
                  <a:srgbClr val="000000"/>
                </a:solidFill>
                <a:latin typeface="Calibri"/>
              </a:rPr>
              <a:t>Prepare RRTs for field deployment, having a good understanding of national emergency coordination mechanisms, of the role of a RRT &amp; responsibilities of each member, &amp; identifying RRT stakeholders on the field, including role within the Global Health Emergency Workfor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B – Technical modules - </a:t>
            </a:r>
            <a:r>
              <a:rPr b="0" lang="en-US" sz="1200" spc="-1" strike="noStrike">
                <a:solidFill>
                  <a:srgbClr val="000000"/>
                </a:solidFill>
                <a:latin typeface="Calibri"/>
              </a:rPr>
              <a:t>Strengthen participant’s knowledge and skills  on key technical areas: Epidemiology &amp; surveillance; Data management; Outbreak investigation; Rapid risk assessment; Infection Prevention and Control; Laboratory sample packaging &amp; transportation; Social mobilization &amp; community engagement; Risk communication; Psychosocial First Aid; Contact tracing; Safe &amp; dignified buri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C – Scenario-based skills drill - </a:t>
            </a:r>
            <a:r>
              <a:rPr b="0" lang="en-US" sz="1200" spc="-1" strike="noStrike">
                <a:solidFill>
                  <a:srgbClr val="000000"/>
                </a:solidFill>
                <a:latin typeface="Calibri"/>
              </a:rPr>
              <a:t>Apply &amp; practice knowledge &amp; skills on the various technical areas.</a:t>
            </a:r>
            <a:r>
              <a:rPr b="0" lang="en-GB" sz="1200" spc="-1" strike="noStrike">
                <a:solidFill>
                  <a:srgbClr val="000000"/>
                </a:solidFill>
                <a:latin typeface="Calibri"/>
              </a:rPr>
              <a:t> </a:t>
            </a:r>
            <a:r>
              <a:rPr b="0" lang="en-US" sz="1200" spc="-1" strike="noStrike">
                <a:solidFill>
                  <a:srgbClr val="000000"/>
                </a:solidFill>
                <a:latin typeface="Calibri"/>
              </a:rPr>
              <a:t>Assess participant learning through observ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D – Evaluation and way forward - </a:t>
            </a:r>
            <a:r>
              <a:rPr b="0" lang="en-US" sz="1200" spc="-1" strike="noStrike">
                <a:solidFill>
                  <a:srgbClr val="000000"/>
                </a:solidFill>
                <a:latin typeface="Calibri"/>
              </a:rPr>
              <a:t>Capture key learning points &amp; plan how to apply them when back to the job.</a:t>
            </a:r>
            <a:r>
              <a:rPr b="0" lang="en-GB" sz="1200" spc="-1" strike="noStrike">
                <a:solidFill>
                  <a:srgbClr val="000000"/>
                </a:solidFill>
                <a:latin typeface="Calibri"/>
              </a:rPr>
              <a:t> </a:t>
            </a:r>
            <a:r>
              <a:rPr b="0" lang="en-US" sz="1200" spc="-1" strike="noStrike">
                <a:solidFill>
                  <a:srgbClr val="000000"/>
                </a:solidFill>
                <a:latin typeface="Calibri"/>
              </a:rPr>
              <a:t>Ensure continuous learning &amp; networking after the RRT training.</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 C will be detailed here. I has 9 sessions C1 – C9, the next slide will provide brief summary of each session</a:t>
            </a:r>
            <a:endParaRPr b="0" lang="en-US" sz="1200" spc="-1" strike="noStrike">
              <a:solidFill>
                <a:srgbClr val="000000"/>
              </a:solidFill>
              <a:latin typeface="Calibri"/>
            </a:endParaRPr>
          </a:p>
        </p:txBody>
      </p:sp>
      <p:sp>
        <p:nvSpPr>
          <p:cNvPr id="70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82DE4-F61F-4B36-97E8-4732588428A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30240" y="741240"/>
            <a:ext cx="4937040" cy="3702240"/>
          </a:xfrm>
          <a:prstGeom prst="rect">
            <a:avLst/>
          </a:prstGeom>
          <a:ln w="0">
            <a:noFill/>
          </a:ln>
        </p:spPr>
      </p:sp>
      <p:sp>
        <p:nvSpPr>
          <p:cNvPr id="71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5BA11-421F-4580-A616-84E2B2D8AF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930240" y="741240"/>
            <a:ext cx="4937040" cy="3702240"/>
          </a:xfrm>
          <a:prstGeom prst="rect">
            <a:avLst/>
          </a:prstGeom>
          <a:ln w="0">
            <a:noFill/>
          </a:ln>
        </p:spPr>
      </p:sp>
      <p:sp>
        <p:nvSpPr>
          <p:cNvPr id="71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076490E-27E2-496D-ADCE-B30CB5DE429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30240" y="741240"/>
            <a:ext cx="4937040" cy="3702240"/>
          </a:xfrm>
          <a:prstGeom prst="rect">
            <a:avLst/>
          </a:prstGeom>
          <a:ln w="0">
            <a:noFill/>
          </a:ln>
        </p:spPr>
      </p:sp>
      <p:sp>
        <p:nvSpPr>
          <p:cNvPr id="71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E995F84-1676-474E-BF33-7C31192B115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30240" y="741240"/>
            <a:ext cx="4937040" cy="3702240"/>
          </a:xfrm>
          <a:prstGeom prst="rect">
            <a:avLst/>
          </a:prstGeom>
          <a:ln w="0">
            <a:noFill/>
          </a:ln>
        </p:spPr>
      </p:sp>
      <p:sp>
        <p:nvSpPr>
          <p:cNvPr id="71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3927DFC-981B-4809-9B6B-2A6691D80F0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30240" y="741240"/>
            <a:ext cx="4937040" cy="3702240"/>
          </a:xfrm>
          <a:prstGeom prst="rect">
            <a:avLst/>
          </a:prstGeom>
          <a:ln w="0">
            <a:noFill/>
          </a:ln>
        </p:spPr>
      </p:sp>
      <p:sp>
        <p:nvSpPr>
          <p:cNvPr id="68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51B6480-C02B-4EDB-AC12-25426B4F04F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930240" y="741240"/>
            <a:ext cx="4937040" cy="3702240"/>
          </a:xfrm>
          <a:prstGeom prst="rect">
            <a:avLst/>
          </a:prstGeom>
          <a:ln w="0">
            <a:noFill/>
          </a:ln>
        </p:spPr>
      </p:sp>
      <p:sp>
        <p:nvSpPr>
          <p:cNvPr id="68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2E6B587-618B-493A-BC1C-FAFF3440912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30240" y="741240"/>
            <a:ext cx="4937040" cy="3702240"/>
          </a:xfrm>
          <a:prstGeom prst="rect">
            <a:avLst/>
          </a:prstGeom>
          <a:ln w="0">
            <a:noFill/>
          </a:ln>
        </p:spPr>
      </p:sp>
      <p:sp>
        <p:nvSpPr>
          <p:cNvPr id="68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AB5890C-9423-4C28-B145-5A4D9C98E45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930240" y="741240"/>
            <a:ext cx="4937040" cy="3702240"/>
          </a:xfrm>
          <a:prstGeom prst="rect">
            <a:avLst/>
          </a:prstGeom>
          <a:ln w="0">
            <a:noFill/>
          </a:ln>
        </p:spPr>
      </p:sp>
      <p:sp>
        <p:nvSpPr>
          <p:cNvPr id="68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F1ADEA2-8651-457C-807B-097E31B6777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30240" y="741240"/>
            <a:ext cx="4937040" cy="3702240"/>
          </a:xfrm>
          <a:prstGeom prst="rect">
            <a:avLst/>
          </a:prstGeom>
          <a:ln w="0">
            <a:noFill/>
          </a:ln>
        </p:spPr>
      </p:sp>
      <p:sp>
        <p:nvSpPr>
          <p:cNvPr id="69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FE1A8FA-CB60-49F2-ADD3-CD2064BC8F0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30240" y="741240"/>
            <a:ext cx="4937040" cy="3702240"/>
          </a:xfrm>
          <a:prstGeom prst="rect">
            <a:avLst/>
          </a:prstGeom>
          <a:ln w="0">
            <a:noFill/>
          </a:ln>
        </p:spPr>
      </p:sp>
      <p:sp>
        <p:nvSpPr>
          <p:cNvPr id="69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2A42B75-D0E0-4053-89E3-97B276A4C25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30240" y="741240"/>
            <a:ext cx="4937040" cy="3702240"/>
          </a:xfrm>
          <a:prstGeom prst="rect">
            <a:avLst/>
          </a:prstGeom>
          <a:ln w="0">
            <a:noFill/>
          </a:ln>
        </p:spPr>
      </p:sp>
      <p:sp>
        <p:nvSpPr>
          <p:cNvPr id="69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C4B5BA2-242D-45A7-8A39-B356D0E0278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30240" y="741240"/>
            <a:ext cx="4937040" cy="3702240"/>
          </a:xfrm>
          <a:prstGeom prst="rect">
            <a:avLst/>
          </a:prstGeom>
          <a:ln w="0">
            <a:noFill/>
          </a:ln>
        </p:spPr>
      </p:sp>
      <p:sp>
        <p:nvSpPr>
          <p:cNvPr id="70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70C3339-F423-440F-B1BB-59E80A8308D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5BAF3CF-E3CF-4AE3-99D8-1B1AACA93C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A09554-6642-40CD-8BD4-A1D9AED5A74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79E052-9569-40A0-BEB5-7D77AA94D71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E20974-EC2D-4595-A486-5C4BD788823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EB9FFB-F3E9-447B-9DFC-B2CF1A164EE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A1CD63-9D0D-453E-9CD5-3A5C661EEEE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F4176D-30AE-4183-84B0-00CA4BEFA05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61BE0E-56EB-4529-9204-3F26475F4EA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75743E-D4BD-4F2F-8492-31E4DC000D4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6EBA3E-66C0-4ABA-9A0F-C771FB8E891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E779FC5-2FD5-40AF-B268-CA5DE2880B8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41B2F351-2C79-4E56-9FE4-20F966C82E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317EE94-DC4D-4913-A1A1-0F583FFC23E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A308BD5-007A-4CE0-8451-27143BD94A6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93E8D45-C410-49DF-A6DD-98AFA16F53B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E247FC0-BB87-4183-B738-87BC037DB14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0DEA8A9-77DF-4AF8-86F7-1D36E141CA7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9E66947-3E7E-480A-AF0A-6599BEE9B24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F7BC11A-34F3-42B9-BA37-610D039E50F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90F4993-0901-45E9-A8F0-B217C8CC2BD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17DAD04-A58F-469F-9C7F-A7E27A9ECEC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C02E987-A7CE-4F1B-97B5-11AFAFB347F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1C263E09-011E-4947-8E7E-03252611B8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2DAB69A-2233-4E53-A380-C4970C8D505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6A94F577-02F6-4A7F-AC2E-BF290C314FA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5B3D6200-F95D-4BBD-9EE5-45DCF581A38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E62CC15-EAFA-4E67-8062-B968DB95417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21E70DD-0189-4350-823D-F4009703C03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8D49918-2B2C-488D-8D79-779A05D612B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B592A02-0D69-4413-81E4-41B711A430E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81F1892-7CB0-4888-9273-A5C3224B564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6717867-48EE-4CBD-82BC-A60A1608D38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6ED8775-0D2A-412D-B4BA-9D9D910DA9A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886E4FC-1EAD-436E-9259-EA0293FBA0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1CB4B37-2F46-4B72-A67E-7D8356CB2A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7C90431-0E86-4E1B-97E4-D4B096EB4D3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9AC9F562-7E36-4B0A-BF1C-AD775104E00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DC199F39-3DB0-4915-B31C-F510BF7825B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337E8E5-085D-4706-A275-2E3C71F60AF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8A8E45-AF49-4099-A372-546C891F3ED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ECAF29-9CB8-4E37-83C6-E97CA37085D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E7F55D-EF13-4C9D-9E27-0ACF30B2BB0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15F82D-5564-4261-A751-67A2FE17E3C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52D616-324A-4DBE-A3A6-AE384ECAF41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942127-5626-4EB2-BF0B-09E05DFA55F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D3EEF5-0B15-4BE8-A986-95E5105A33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9DE6C0-9012-4150-9A74-BC007915CC8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234CC1-1BF4-42E9-9D2C-647B4E42CE3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490E48-6644-43F3-A3EA-0E18E897666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66F8F57-3B01-4142-979B-118CACCBEFD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46FE16A-DFEF-4FBD-BC64-2E6E4BB744E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60B2D0DC-A3E3-428E-B2D4-CBD4B34B1CAE}"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F81FD0A-D798-4401-BF0F-A7A626505D68}"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E341AE7-9157-484A-AE8A-2FBB1BE1F03D}"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156B46F-96EA-451A-A057-2CF44EEA24FB}"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B30EA65-29B3-4613-9CE4-B21DA8FE7B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2BA27D-1B27-4699-B9B4-953E059F2B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6FCA77F-B4AB-40CD-9966-2D6CCC061AF7}"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44F2F27-A3EF-4477-B06A-370C8F0A265C}"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02CF3B4-4895-4757-BDA8-1783ECC06CB6}"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0D17826-EDA1-4DC0-842E-ABAF12A2D707}"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4554421-8385-477C-B143-255610914403}"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DE78BB84-68BD-4FC5-A387-9348640C0BD8}"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23CABA47-6148-415D-BDEC-87168EA64BD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A3CFF7-4E22-4D9E-9A88-3D898FD285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301BAF-B288-4E29-AF36-8ECECAE9CC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0C4501-C854-40CA-BC40-0A1F8B06DB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F61FE5-65DF-4811-BCBE-80EC0940C1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326B2F-DB21-4707-AC49-5FD6F4CC17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4A678C-B98F-4E3E-BB3E-8BB38592E7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8B4289-1B64-41E6-9E28-5E7C4D3B9B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7A91FB-D32C-4D6A-B88D-3D481B94CE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937FC22-107D-4C46-B6DE-FE44882DCC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E9E469-9FF0-48D2-BB96-660E6CEAD6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79B6FA8-80BF-44B0-A118-9BD0CE30C5F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FE87C118-D619-4FB5-8A6B-4C955F6F231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7D193B5E-56C1-4DF4-94DF-35189563697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4D8BEB10-1423-4420-9FF0-8F5B563185C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72771DF4-5C61-424A-895B-9FC4C519BC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15F91A-C9A8-427F-A922-FA87821FA29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1A403F2D-AB58-457C-B0B4-A61D87C248F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F1419350-2606-4599-A72E-896684973EE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5FA88493-8DC5-4283-9F43-3CD42EE95C7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60D7195C-61FD-46AB-943B-DC438DA33A6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9F1121D5-966C-4E18-B491-6096DDB227F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790EB81F-EAF9-4640-8EF1-9E17731125A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B267C9D1-3DB9-4EB7-9430-5465BCD74AB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0494FBA-E85B-4378-9598-96C919745D6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61C576E-D735-47E9-AE8D-00E335B22D5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2C4051A-AD34-42BC-8262-00C1663652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A310A8-EEE7-457B-9390-55DC3AA1ABE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AA69928-2E00-47FF-BB24-0031739B150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04B2892-639D-4F1A-B07C-707BCD6C424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28B17CF-688F-476A-BEF0-DF32589C7B6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7EDE2C2-E7DF-42D2-964B-E482FDFC861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7FB3808-7E0F-4AA2-8271-0BF5611F461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6963C0F-1D7C-44B7-AFEF-2ACBD281083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9762994-E264-408A-8CE9-1341CCDA4B3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1AAD0F2-630A-4D20-B956-F9C11476C19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32C9176-4BD9-4616-8E87-CB235F07576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D09DA285-FE59-45B4-A8E3-6C9B588DA0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FA5B73-6D6A-48AE-B4C8-01538EDCAC4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E2D5706-C401-4998-ACDA-39F641C904E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3C820F0-E976-493E-98B3-32D5780C951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A0D9FB5-912F-46E6-AB1C-8C13E0AAB55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163B101-FB86-4B4C-A53E-FA224A97DFA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A142044-B8CF-4296-A487-8B09CA7F559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80966BF-2B5D-4DF9-AD54-8D532928860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AA46693-DEE3-417A-A3F1-2686A032535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FFB61CC-75E1-4FE3-A280-088BEB48508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6C0227A-D7CE-44BD-9318-36BCC04D085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1FEF3B9-48F9-40A9-9C5E-6F514761D1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4D9403-91CC-4384-8318-1A9E52FEF49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F35C5687-26FD-43F7-9B8C-C393DB965DE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8C1D9E-BAC2-407E-8D9B-9FD9147442F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D36AFF-C726-43A0-8FA1-BECB58B6B4F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D6815C-2BFE-4396-8EAD-6C499A53019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FB1B2D-4A2F-45AA-8934-1F8FFBCBAC8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6F1DEE-C0F3-4A13-A443-A473004448F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F962F6-99CD-41AD-82DA-2F2213931A7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622879-CD21-4B0D-9191-512D7D4B190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9F5378-99C9-4044-B3E6-B208E313340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D6CDDE-740D-49FE-998E-D5E89536DB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93965D-F3F0-493D-BA2A-FB02B7730B3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894445-107B-45AE-B35B-F32B8CDD70A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ED0CF2-EF9B-48BE-A26B-BD157C332C0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F0FBF2-6D99-49DD-BC72-D55068B8708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34DAE97-3B7E-46C1-8606-971E6731F79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DB269DF-C001-49A4-B0EB-E1CFF0E0388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37F0B8A-BDEB-4E63-94A8-A0AA5B7F2BA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1E5F1B2-000E-4810-A8E8-77128F0CA41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48A6DD3-6E8D-4A31-B7C0-E6699BF7F62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6CE9F1D-4CDF-49E8-85F7-1745968537C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36D802F-02CB-4F45-97BC-EB1984DD58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C583D0-D1E0-4E5A-BB03-4C334CC1126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AF70263-0F4F-49A4-B89A-C7C64656C6F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6B88F58-2F62-4E75-9ACB-18EE79763BD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3D0453B-A9DB-4B3E-930C-7AC1A7B07F0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F9DFCD0-46F0-4D70-909A-F5F498C85D0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5FE98FDF-D998-4AA3-8EB7-D7A47F90CD5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61FED730-9066-4219-97E4-54A93021E73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14B62A3-2099-46F9-AF12-8F1E80AFB95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60037C1-E6B8-4B9C-B45B-2A82D0B376E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DA6AA76-8A9C-4D80-BC5F-09144607C82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43A65CF-34F3-4427-B481-FAC3C63226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2A3196-0CF1-44A3-AE62-5D6CA27B0F3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B71A5A7-75CF-498B-9527-4ADAFE55263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FC5407D-B6D0-4C9C-A7EB-5E9972D9FDF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ACFE3E0-22B5-4C96-BA76-265A81F3AF4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4461200-39A0-45EA-B2A7-6B014B89BE6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A2E6CC7-9850-44C5-A900-D4D88B8B097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A32F5411-CF6F-41B1-AE73-850D8364B82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19EA58CD-DC0D-40B2-AB8C-40C7C0D802C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B9B562-295A-43C1-9874-E3C296F2B9D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D911A0-4FC7-42E2-8ADE-2AA67AA384B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E87EE7-1968-4507-A0F2-856EF84795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CDC67-69CF-46A2-9324-9DBCD951F48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FF050-65FC-407C-9221-47574F33F1C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B16B1-386F-4C7B-8279-C5C45853CED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37A1E-D946-4D05-88AA-BE0F0B55E90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E7261-4CD7-4FEF-8B95-5FF0B90E7B2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B5CCA-0614-451F-918E-2E47350D3C1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CF9F0-13AF-47DC-8815-92FBBD49F4F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102E8-079B-48AC-B9DB-C8BAA042E91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653D0-E9DE-4B35-BCFF-43423A0D8FB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94AA8-4C4B-4BB2-9FB3-33373E08801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D2552-6C22-4F51-A685-D4BFBE540A20}"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46D86-EBF4-40B8-9B47-3449EF99A09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C2271-EB03-4A35-9304-935359E9101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7B925-43E0-4D8C-922E-DF39D802E28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A6FA2-9316-4054-AD26-274AE425200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D7CE6-9366-4407-89D6-32F0B880989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D8432-C0BB-41BD-9F25-4CB328090CE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D49C3-F6C4-4F3B-BE7A-414C8B4CD73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95F7E-F25D-473B-9D13-78AA374C8DC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DC70D-F36F-4C49-B8F0-1FFBFB05058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885B5-F17D-4A65-9672-5CC1CEDD4E1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F0185-CA17-4E80-8B71-690CA91DF4B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B48CC-0970-4D57-9576-42B3070D44C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0C607-187A-4BA4-8DC9-4019311A79B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480F2-FFBE-42E3-B727-67E09DA633D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EVD Rapid Response Teams </a:t>
            </a:r>
            <a:br>
              <a:rPr sz="3200"/>
            </a:br>
            <a:r>
              <a:rPr b="1" lang="en-US" sz="3200" spc="-1" strike="noStrike">
                <a:solidFill>
                  <a:srgbClr val="0070c0"/>
                </a:solidFill>
                <a:latin typeface="Arial"/>
                <a:ea typeface="Arial"/>
              </a:rPr>
              <a:t>Training</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Arial"/>
                <a:ea typeface="Arial"/>
              </a:rPr>
              <a:t>Insert training dates, venue and country</a:t>
            </a:r>
            <a:endParaRPr b="0" lang="en-US" sz="2800" spc="-1" strike="noStrike">
              <a:solidFill>
                <a:srgbClr val="000000"/>
              </a:solidFill>
              <a:latin typeface="Calibri"/>
            </a:endParaRPr>
          </a:p>
        </p:txBody>
      </p:sp>
      <p:sp>
        <p:nvSpPr>
          <p:cNvPr id="617" name="TextBox 1"/>
          <p:cNvSpPr/>
          <p:nvPr/>
        </p:nvSpPr>
        <p:spPr>
          <a:xfrm>
            <a:off x="2472120" y="4687920"/>
            <a:ext cx="419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Arial"/>
              </a:rPr>
              <a:t>Training introduc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pic>
        <p:nvPicPr>
          <p:cNvPr id="619" name="Picture 1" descr="Description: WHO-EN-BW-H"/>
          <p:cNvPicPr/>
          <p:nvPr/>
        </p:nvPicPr>
        <p:blipFill>
          <a:blip r:embed="rId1"/>
          <a:stretch/>
        </p:blipFill>
        <p:spPr>
          <a:xfrm>
            <a:off x="152280" y="79200"/>
            <a:ext cx="2438640" cy="762120"/>
          </a:xfrm>
          <a:prstGeom prst="rect">
            <a:avLst/>
          </a:prstGeom>
          <a:ln w="0">
            <a:noFill/>
          </a:ln>
        </p:spPr>
      </p:pic>
      <p:sp>
        <p:nvSpPr>
          <p:cNvPr id="620"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ert country/institution lo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Title 1" descr=""/>
          <p:cNvPicPr/>
          <p:nvPr/>
        </p:nvPicPr>
        <p:blipFill>
          <a:blip r:embed="rId1"/>
          <a:stretch/>
        </p:blipFill>
        <p:spPr>
          <a:xfrm>
            <a:off x="0" y="274680"/>
            <a:ext cx="9144000" cy="1103400"/>
          </a:xfrm>
          <a:prstGeom prst="rect">
            <a:avLst/>
          </a:prstGeom>
          <a:ln w="0">
            <a:noFill/>
          </a:ln>
        </p:spPr>
      </p:pic>
      <p:graphicFrame>
        <p:nvGraphicFramePr>
          <p:cNvPr id="648"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esentation of investigation re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1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49" name="TextBox 12"/>
          <p:cNvSpPr/>
          <p:nvPr/>
        </p:nvSpPr>
        <p:spPr>
          <a:xfrm>
            <a:off x="7378560" y="4267080"/>
            <a:ext cx="1279800" cy="94644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 D1-D3 Evaluation &amp; way forward</a:t>
            </a:r>
            <a:endParaRPr b="0" lang="en-US" sz="1400" spc="-1" strike="noStrike">
              <a:solidFill>
                <a:srgbClr val="000000"/>
              </a:solidFill>
              <a:latin typeface="Calibri"/>
            </a:endParaRPr>
          </a:p>
        </p:txBody>
      </p:sp>
      <p:sp>
        <p:nvSpPr>
          <p:cNvPr id="650" name="TextBox 15"/>
          <p:cNvSpPr/>
          <p:nvPr/>
        </p:nvSpPr>
        <p:spPr>
          <a:xfrm>
            <a:off x="1863720" y="568656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1"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2"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3"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Title 1" descr=""/>
          <p:cNvPicPr/>
          <p:nvPr/>
        </p:nvPicPr>
        <p:blipFill>
          <a:blip r:embed="rId1"/>
          <a:stretch/>
        </p:blipFill>
        <p:spPr>
          <a:xfrm>
            <a:off x="0" y="274680"/>
            <a:ext cx="9144000" cy="1103400"/>
          </a:xfrm>
          <a:prstGeom prst="rect">
            <a:avLst/>
          </a:prstGeom>
          <a:ln w="0">
            <a:noFill/>
          </a:ln>
        </p:spPr>
      </p:pic>
      <p:graphicFrame>
        <p:nvGraphicFramePr>
          <p:cNvPr id="655"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6"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657"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658"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 D1-D3 Evaluation and way Forward</a:t>
            </a:r>
            <a:endParaRPr b="0" lang="en-US" sz="1500" spc="-1" strike="noStrike">
              <a:solidFill>
                <a:srgbClr val="000000"/>
              </a:solidFill>
              <a:latin typeface="Calibri"/>
            </a:endParaRPr>
          </a:p>
        </p:txBody>
      </p:sp>
      <p:sp>
        <p:nvSpPr>
          <p:cNvPr id="659"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lock C: Scenario-based skills drill</a:t>
            </a:r>
            <a:endParaRPr b="0" lang="en-US" sz="1800" spc="-1" strike="noStrike">
              <a:solidFill>
                <a:srgbClr val="000000"/>
              </a:solidFill>
              <a:latin typeface="Calibri"/>
            </a:endParaRPr>
          </a:p>
        </p:txBody>
      </p:sp>
      <p:sp>
        <p:nvSpPr>
          <p:cNvPr id="660"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6</a:t>
            </a:r>
            <a:endParaRPr b="0" lang="en-US" sz="1800" spc="-1" strike="noStrike">
              <a:solidFill>
                <a:srgbClr val="000000"/>
              </a:solidFill>
              <a:latin typeface="Calibri"/>
            </a:endParaRPr>
          </a:p>
        </p:txBody>
      </p:sp>
      <p:sp>
        <p:nvSpPr>
          <p:cNvPr id="661"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6</a:t>
            </a:r>
            <a:endParaRPr b="0" lang="en-US" sz="1800" spc="-1" strike="noStrike">
              <a:solidFill>
                <a:srgbClr val="000000"/>
              </a:solidFill>
              <a:latin typeface="Calibri"/>
            </a:endParaRPr>
          </a:p>
        </p:txBody>
      </p:sp>
      <p:sp>
        <p:nvSpPr>
          <p:cNvPr id="662"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3"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4"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5"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6"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7"/>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5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4"/>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Title 1" descr=""/>
          <p:cNvPicPr/>
          <p:nvPr/>
        </p:nvPicPr>
        <p:blipFill>
          <a:blip r:embed="rId1"/>
          <a:stretch/>
        </p:blipFill>
        <p:spPr>
          <a:xfrm>
            <a:off x="536400" y="274680"/>
            <a:ext cx="8229600" cy="1103400"/>
          </a:xfrm>
          <a:prstGeom prst="rect">
            <a:avLst/>
          </a:prstGeom>
          <a:ln w="0">
            <a:noFill/>
          </a:ln>
        </p:spPr>
      </p:pic>
      <p:graphicFrame>
        <p:nvGraphicFramePr>
          <p:cNvPr id="668" name=""/>
          <p:cNvGraphicFramePr/>
          <p:nvPr/>
        </p:nvGraphicFramePr>
        <p:xfrm>
          <a:off x="457200" y="1182600"/>
          <a:ext cx="8229600" cy="4684680"/>
        </p:xfrm>
        <a:graphic>
          <a:graphicData uri="http://schemas.openxmlformats.org/drawingml/2006/table">
            <a:tbl>
              <a:tblPr/>
              <a:tblGrid>
                <a:gridCol w="1614600"/>
                <a:gridCol w="3314520"/>
                <a:gridCol w="3300480"/>
              </a:tblGrid>
              <a:tr h="533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1 RRT mobilized</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6 Investigation repor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 C3 Interview with pati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esentation and debrief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 </a:t>
                      </a:r>
                      <a:r>
                        <a:rPr b="0" lang="en-GB" sz="1600" spc="-1" strike="noStrike">
                          <a:solidFill>
                            <a:srgbClr val="000000"/>
                          </a:solidFill>
                          <a:latin typeface="Calibri"/>
                        </a:rPr>
                        <a:t>C3 Interview with patien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4 Communication and community engagem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3/4 - Rotating</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5 Active case finding and contact trac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Be on tim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Switch-off mobile-phon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isten and contribut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Feel free to express what you think</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sk questions when something is not understood</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spect everybody’s opinion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t>
            </a:r>
            <a:endParaRPr b="0" lang="en-US" sz="2400" spc="-1" strike="noStrike">
              <a:solidFill>
                <a:srgbClr val="10253f"/>
              </a:solidFill>
              <a:latin typeface="Arial"/>
            </a:endParaRPr>
          </a:p>
        </p:txBody>
      </p:sp>
      <p:sp>
        <p:nvSpPr>
          <p:cNvPr id="6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Ground rul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Content Placeholder 1" descr=""/>
          <p:cNvPicPr/>
          <p:nvPr/>
        </p:nvPicPr>
        <p:blipFill>
          <a:blip r:embed="rId1"/>
          <a:stretch/>
        </p:blipFill>
        <p:spPr>
          <a:xfrm>
            <a:off x="378000" y="1407960"/>
            <a:ext cx="8308800" cy="3926160"/>
          </a:xfrm>
          <a:prstGeom prst="rect">
            <a:avLst/>
          </a:prstGeom>
          <a:ln w="0">
            <a:noFill/>
          </a:ln>
        </p:spPr>
      </p:pic>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Housekeeping information</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67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Thank you!</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Session o</a:t>
            </a:r>
            <a:r>
              <a:rPr b="1" lang="en-US" sz="3600" spc="-1" strike="noStrike">
                <a:solidFill>
                  <a:srgbClr val="002060"/>
                </a:solidFill>
                <a:latin typeface="Arial"/>
              </a:rPr>
              <a:t>bjectives</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ce participants and facilitato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ain</a:t>
            </a:r>
            <a:r>
              <a:rPr b="0" lang="en-US" sz="2800" spc="-1" strike="noStrike">
                <a:solidFill>
                  <a:srgbClr val="002060"/>
                </a:solidFill>
                <a:latin typeface="Arial"/>
              </a:rPr>
              <a:t> training goal and operational objective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escribe</a:t>
            </a:r>
            <a:r>
              <a:rPr b="0" lang="en-US" sz="2800" spc="-1" strike="noStrike">
                <a:solidFill>
                  <a:srgbClr val="002060"/>
                </a:solidFill>
                <a:latin typeface="Arial"/>
              </a:rPr>
              <a:t> the structure and content of the training</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esent the agenda and training flow</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a:t>
            </a:r>
            <a:r>
              <a:rPr b="0" lang="en-US" sz="2800" spc="-1" strike="noStrike">
                <a:solidFill>
                  <a:srgbClr val="002060"/>
                </a:solidFill>
                <a:latin typeface="Arial"/>
              </a:rPr>
              <a:t>ntroduce ground rules and 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utline</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troduc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Course goal</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perational objectiv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overview</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Ground rul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Introduc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Let’s introduce ourselves in this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Before saying your name, state </a:t>
            </a:r>
            <a:r>
              <a:rPr b="0" lang="en-GB" sz="2400" spc="-1" strike="noStrike">
                <a:solidFill>
                  <a:srgbClr val="e46c0a"/>
                </a:solidFill>
                <a:latin typeface="Arial"/>
              </a:rPr>
              <a:t>a quality </a:t>
            </a:r>
            <a:r>
              <a:rPr b="0" lang="en-GB" sz="2400" spc="-1" strike="noStrike">
                <a:solidFill>
                  <a:srgbClr val="10253f"/>
                </a:solidFill>
                <a:latin typeface="Arial"/>
              </a:rPr>
              <a:t>that matches with you starting with the </a:t>
            </a:r>
            <a:r>
              <a:rPr b="0" lang="en-GB" sz="2400" spc="-1" strike="noStrike">
                <a:solidFill>
                  <a:srgbClr val="e46c0a"/>
                </a:solidFill>
                <a:latin typeface="Arial"/>
              </a:rPr>
              <a:t>1</a:t>
            </a:r>
            <a:r>
              <a:rPr b="0" lang="en-GB" sz="2400" spc="-1" strike="noStrike" baseline="30000">
                <a:solidFill>
                  <a:srgbClr val="e46c0a"/>
                </a:solidFill>
                <a:latin typeface="Arial"/>
              </a:rPr>
              <a:t>st</a:t>
            </a:r>
            <a:r>
              <a:rPr b="0" lang="en-GB" sz="2400" spc="-1" strike="noStrike">
                <a:solidFill>
                  <a:srgbClr val="e46c0a"/>
                </a:solidFill>
                <a:latin typeface="Arial"/>
              </a:rPr>
              <a:t> letter </a:t>
            </a:r>
            <a:r>
              <a:rPr b="0" lang="en-GB" sz="2400" spc="-1" strike="noStrike">
                <a:solidFill>
                  <a:srgbClr val="10253f"/>
                </a:solidFill>
                <a:latin typeface="Arial"/>
              </a:rPr>
              <a:t>of your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if your name is </a:t>
            </a:r>
            <a:r>
              <a:rPr b="1" lang="en-GB" sz="2400" spc="-1" strike="noStrike">
                <a:solidFill>
                  <a:srgbClr val="10253f"/>
                </a:solidFill>
                <a:latin typeface="Arial"/>
              </a:rPr>
              <a:t>A</a:t>
            </a:r>
            <a:r>
              <a:rPr b="0" lang="en-GB" sz="2400" spc="-1" strike="noStrike">
                <a:solidFill>
                  <a:srgbClr val="10253f"/>
                </a:solidFill>
                <a:latin typeface="Arial"/>
              </a:rPr>
              <a:t>mr, you can say: </a:t>
            </a:r>
            <a:r>
              <a:rPr b="0" lang="en-GB" sz="2400" spc="-1" strike="noStrike">
                <a:solidFill>
                  <a:srgbClr val="e46c0a"/>
                </a:solidFill>
                <a:latin typeface="Arial"/>
              </a:rPr>
              <a:t>“</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to the right will repeat what you said, and introduce herself/himself in the same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the first name of the next person to the right is Paula. Paula will say: “</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r>
              <a:rPr b="1" lang="en-GB" sz="2400" spc="-1" strike="noStrike">
                <a:solidFill>
                  <a:srgbClr val="e46c0a"/>
                </a:solidFill>
                <a:latin typeface="Arial"/>
              </a:rPr>
              <a:t>P</a:t>
            </a:r>
            <a:r>
              <a:rPr b="0" lang="en-GB" sz="2400" spc="-1" strike="noStrike">
                <a:solidFill>
                  <a:srgbClr val="e46c0a"/>
                </a:solidFill>
                <a:latin typeface="Arial"/>
              </a:rPr>
              <a:t>ragmatic </a:t>
            </a:r>
            <a:r>
              <a:rPr b="1" lang="en-GB" sz="2400" spc="-1" strike="noStrike">
                <a:solidFill>
                  <a:srgbClr val="e46c0a"/>
                </a:solidFill>
                <a:latin typeface="Arial"/>
              </a:rPr>
              <a:t>P</a:t>
            </a:r>
            <a:r>
              <a:rPr b="0" lang="en-GB" sz="2400" spc="-1" strike="noStrike">
                <a:solidFill>
                  <a:srgbClr val="e46c0a"/>
                </a:solidFill>
                <a:latin typeface="Arial"/>
              </a:rPr>
              <a:t>aula</a:t>
            </a:r>
            <a:r>
              <a:rPr b="0" lang="en-GB" sz="2400" spc="-1" strike="noStrike">
                <a:solidFill>
                  <a:srgbClr val="10253f"/>
                </a:solidFill>
                <a:latin typeface="Arial"/>
              </a:rPr>
              <a:t>”)</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will repeat what the previous participants said and the adding her/his quality and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Course goal</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he EVD Rapid Response Teams Training aims at reinforcing the capacity and skills of multidisciplinary Rapid Response Teams (RRT) and their individual members to </a:t>
            </a:r>
            <a:r>
              <a:rPr b="0" lang="en-US" sz="2800" spc="-1" strike="noStrike">
                <a:solidFill>
                  <a:srgbClr val="e46c0a"/>
                </a:solidFill>
                <a:latin typeface="Arial"/>
              </a:rPr>
              <a:t>early detect </a:t>
            </a:r>
            <a:r>
              <a:rPr b="0" lang="en-US" sz="2800" spc="-1" strike="noStrike">
                <a:solidFill>
                  <a:srgbClr val="002060"/>
                </a:solidFill>
                <a:latin typeface="Arial"/>
              </a:rPr>
              <a:t>and </a:t>
            </a:r>
            <a:r>
              <a:rPr b="0" lang="en-US" sz="2800" spc="-1" strike="noStrike">
                <a:solidFill>
                  <a:srgbClr val="e46c0a"/>
                </a:solidFill>
                <a:latin typeface="Arial"/>
              </a:rPr>
              <a:t>effectively respond </a:t>
            </a:r>
            <a:r>
              <a:rPr b="0" lang="en-US" sz="2800" spc="-1" strike="noStrike">
                <a:solidFill>
                  <a:srgbClr val="002060"/>
                </a:solidFill>
                <a:latin typeface="Arial"/>
              </a:rPr>
              <a:t>to a potential EVD outbreak.</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perational objectives</a:t>
            </a:r>
            <a:endParaRPr b="0" lang="en-US" sz="3600" spc="-1" strike="noStrike">
              <a:solidFill>
                <a:srgbClr val="632523"/>
              </a:solidFill>
              <a:latin typeface="Arial"/>
            </a:endParaRPr>
          </a:p>
        </p:txBody>
      </p:sp>
      <p:sp>
        <p:nvSpPr>
          <p:cNvPr id="630" name=""/>
          <p:cNvSpPr txBox="1"/>
          <p:nvPr/>
        </p:nvSpPr>
        <p:spPr>
          <a:xfrm>
            <a:off x="228600" y="1143000"/>
            <a:ext cx="8686800" cy="54100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The RRT training provides participants with the necessary knowledge and skills that will enable them to:</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ct as a </a:t>
            </a:r>
            <a:r>
              <a:rPr b="0" lang="en-GB" sz="1700" spc="-1" strike="noStrike">
                <a:solidFill>
                  <a:srgbClr val="e46c0a"/>
                </a:solidFill>
                <a:latin typeface="Arial"/>
              </a:rPr>
              <a:t>functional multidisciplinary team </a:t>
            </a:r>
            <a:r>
              <a:rPr b="0" lang="en-GB" sz="1700" spc="-1" strike="noStrike">
                <a:solidFill>
                  <a:srgbClr val="002060"/>
                </a:solidFill>
                <a:latin typeface="Arial"/>
              </a:rPr>
              <a:t>when requested by the relevant public health authorit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Enhance </a:t>
            </a:r>
            <a:r>
              <a:rPr b="0" lang="en-GB" sz="1700" spc="-1" strike="noStrike">
                <a:solidFill>
                  <a:srgbClr val="e46c0a"/>
                </a:solidFill>
                <a:latin typeface="Arial"/>
              </a:rPr>
              <a:t>surveillance activities </a:t>
            </a:r>
            <a:r>
              <a:rPr b="0" lang="en-GB" sz="1700" spc="-1" strike="noStrike">
                <a:solidFill>
                  <a:srgbClr val="002060"/>
                </a:solidFill>
                <a:latin typeface="Arial"/>
              </a:rPr>
              <a:t>and adequately </a:t>
            </a:r>
            <a:r>
              <a:rPr b="0" lang="en-GB" sz="1700" spc="-1" strike="noStrike">
                <a:solidFill>
                  <a:srgbClr val="e46c0a"/>
                </a:solidFill>
                <a:latin typeface="Arial"/>
              </a:rPr>
              <a:t>manage data</a:t>
            </a:r>
            <a:r>
              <a:rPr b="0" lang="en-GB" sz="1700" spc="-1" strike="noStrike">
                <a:solidFill>
                  <a:srgbClr val="002060"/>
                </a:solidFill>
                <a:latin typeface="Arial"/>
              </a:rPr>
              <a:t>.</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arry out </a:t>
            </a:r>
            <a:r>
              <a:rPr b="0" lang="en-GB" sz="1700" spc="-1" strike="noStrike">
                <a:solidFill>
                  <a:srgbClr val="e46c0a"/>
                </a:solidFill>
                <a:latin typeface="Arial"/>
              </a:rPr>
              <a:t>epidemiological investigation </a:t>
            </a:r>
            <a:r>
              <a:rPr b="0" lang="en-GB" sz="1700" spc="-1" strike="noStrike">
                <a:solidFill>
                  <a:srgbClr val="002060"/>
                </a:solidFill>
                <a:latin typeface="Arial"/>
              </a:rPr>
              <a:t>of suspected EVD cases either to confirm or discard an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pply appropriate </a:t>
            </a:r>
            <a:r>
              <a:rPr b="0" lang="en-GB" sz="1700" spc="-1" strike="noStrike">
                <a:solidFill>
                  <a:srgbClr val="e46c0a"/>
                </a:solidFill>
                <a:latin typeface="Arial"/>
              </a:rPr>
              <a:t>infection prevention and control measures </a:t>
            </a:r>
            <a:r>
              <a:rPr b="0" lang="en-GB" sz="1700" spc="-1" strike="noStrike">
                <a:solidFill>
                  <a:srgbClr val="002060"/>
                </a:solidFill>
                <a:latin typeface="Arial"/>
              </a:rPr>
              <a:t>in all situations.</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Perform </a:t>
            </a:r>
            <a:r>
              <a:rPr b="0" lang="en-GB" sz="1700" spc="-1" strike="noStrike">
                <a:solidFill>
                  <a:srgbClr val="e46c0a"/>
                </a:solidFill>
                <a:latin typeface="Arial"/>
              </a:rPr>
              <a:t>safe collection </a:t>
            </a:r>
            <a:r>
              <a:rPr b="0" lang="en-GB" sz="1700" spc="-1" strike="noStrike">
                <a:solidFill>
                  <a:srgbClr val="002060"/>
                </a:solidFill>
                <a:latin typeface="Arial"/>
              </a:rPr>
              <a:t>of samples from suspected EVD cases, and arrange for packaging and transportation to reference laborator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onduct </a:t>
            </a:r>
            <a:r>
              <a:rPr b="0" lang="en-GB" sz="1700" spc="-1" strike="noStrike">
                <a:solidFill>
                  <a:srgbClr val="e46c0a"/>
                </a:solidFill>
                <a:latin typeface="Arial"/>
              </a:rPr>
              <a:t>active case finding </a:t>
            </a:r>
            <a:r>
              <a:rPr b="0" lang="en-GB" sz="1700" spc="-1" strike="noStrike">
                <a:solidFill>
                  <a:srgbClr val="002060"/>
                </a:solidFill>
                <a:latin typeface="Arial"/>
              </a:rPr>
              <a:t>and </a:t>
            </a:r>
            <a:r>
              <a:rPr b="0" lang="en-GB" sz="1700" spc="-1" strike="noStrike">
                <a:solidFill>
                  <a:srgbClr val="e46c0a"/>
                </a:solidFill>
                <a:latin typeface="Arial"/>
              </a:rPr>
              <a:t>contact tracing </a:t>
            </a:r>
            <a:r>
              <a:rPr b="0" lang="en-GB" sz="1700" spc="-1" strike="noStrike">
                <a:solidFill>
                  <a:srgbClr val="002060"/>
                </a:solidFill>
                <a:latin typeface="Arial"/>
              </a:rPr>
              <a:t>activities to effectively control a potential EVD outbreak.</a:t>
            </a:r>
            <a:endParaRPr b="0" lang="en-US" sz="1700" spc="-1" strike="noStrike">
              <a:solidFill>
                <a:srgbClr val="10253f"/>
              </a:solidFill>
              <a:latin typeface="Arial"/>
            </a:endParaRPr>
          </a:p>
          <a:p>
            <a:pPr>
              <a:spcBef>
                <a:spcPts val="42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e46c0a"/>
                </a:solidFill>
                <a:latin typeface="Arial"/>
              </a:rPr>
              <a:t>Engage with communities </a:t>
            </a:r>
            <a:r>
              <a:rPr b="0" lang="en-GB" sz="1700" spc="-1" strike="noStrike">
                <a:solidFill>
                  <a:srgbClr val="002060"/>
                </a:solidFill>
                <a:latin typeface="Arial"/>
              </a:rPr>
              <a:t>in the context of a potential EVD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Identify steps for </a:t>
            </a:r>
            <a:r>
              <a:rPr b="0" lang="en-GB" sz="1700" spc="-1" strike="noStrike">
                <a:solidFill>
                  <a:srgbClr val="e46c0a"/>
                </a:solidFill>
                <a:latin typeface="Arial"/>
              </a:rPr>
              <a:t>safe and dignified burial </a:t>
            </a:r>
            <a:r>
              <a:rPr b="0" lang="en-GB" sz="1700" spc="-1" strike="noStrike">
                <a:solidFill>
                  <a:srgbClr val="002060"/>
                </a:solidFill>
                <a:latin typeface="Arial"/>
              </a:rPr>
              <a:t>of patients who died in the context of an EVD outbreak.</a:t>
            </a:r>
            <a:endParaRPr b="0" lang="en-US" sz="17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4.Training overview</a:t>
            </a:r>
            <a:endParaRPr b="0" lang="en-US" sz="3600" spc="-1" strike="noStrike">
              <a:solidFill>
                <a:srgbClr val="632523"/>
              </a:solidFill>
              <a:latin typeface="Arial"/>
            </a:endParaRPr>
          </a:p>
        </p:txBody>
      </p:sp>
      <p:sp>
        <p:nvSpPr>
          <p:cNvPr id="632" name="TextBox 15"/>
          <p:cNvSpPr/>
          <p:nvPr/>
        </p:nvSpPr>
        <p:spPr>
          <a:xfrm>
            <a:off x="685800" y="1471680"/>
            <a:ext cx="7772400" cy="387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5-day training</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30 learning hours</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Composed of 4 training blocks, including:</a:t>
            </a:r>
            <a:endParaRPr b="0" lang="en-US" sz="24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A: RRT in context</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B: Technical modules</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C: Scenario-based skills-drill</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D: Evaluation and way forward</a:t>
            </a:r>
            <a:endParaRPr b="0" lang="en-US" sz="20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Participative methodologies combining experts presentations with group work and a scenario-based skills drill enabling participants to apply and test what they lear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urpose of learning blocks</a:t>
            </a:r>
            <a:endParaRPr b="0" lang="en-US" sz="3600" spc="-1" strike="noStrike">
              <a:solidFill>
                <a:srgbClr val="632523"/>
              </a:solidFill>
              <a:latin typeface="Arial"/>
            </a:endParaRPr>
          </a:p>
        </p:txBody>
      </p:sp>
      <p:sp>
        <p:nvSpPr>
          <p:cNvPr id="634" name="Rounded Rectangle 2"/>
          <p:cNvSpPr/>
          <p:nvPr/>
        </p:nvSpPr>
        <p:spPr>
          <a:xfrm>
            <a:off x="450720" y="1295280"/>
            <a:ext cx="221616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RT IN CONTEXT</a:t>
            </a:r>
            <a:endParaRPr b="0" lang="en-US" sz="1600" spc="-1" strike="noStrike">
              <a:solidFill>
                <a:srgbClr val="000000"/>
              </a:solidFill>
              <a:latin typeface="Calibri"/>
            </a:endParaRPr>
          </a:p>
        </p:txBody>
      </p:sp>
      <p:sp>
        <p:nvSpPr>
          <p:cNvPr id="635" name="Rounded Rectangle 23"/>
          <p:cNvSpPr/>
          <p:nvPr/>
        </p:nvSpPr>
        <p:spPr>
          <a:xfrm>
            <a:off x="466560" y="2590920"/>
            <a:ext cx="220032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B: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ECHNICAL MODULES</a:t>
            </a:r>
            <a:endParaRPr b="0" lang="en-US" sz="1600" spc="-1" strike="noStrike">
              <a:solidFill>
                <a:srgbClr val="000000"/>
              </a:solidFill>
              <a:latin typeface="Calibri"/>
            </a:endParaRPr>
          </a:p>
        </p:txBody>
      </p:sp>
      <p:sp>
        <p:nvSpPr>
          <p:cNvPr id="636" name="Rounded Rectangle 24"/>
          <p:cNvSpPr/>
          <p:nvPr/>
        </p:nvSpPr>
        <p:spPr>
          <a:xfrm>
            <a:off x="493560" y="3886200"/>
            <a:ext cx="217332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C: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SCENARIO-BASED SKILLS-DRILL</a:t>
            </a:r>
            <a:endParaRPr b="0" lang="en-US" sz="1600" spc="-1" strike="noStrike">
              <a:solidFill>
                <a:srgbClr val="000000"/>
              </a:solidFill>
              <a:latin typeface="Calibri"/>
            </a:endParaRPr>
          </a:p>
        </p:txBody>
      </p:sp>
      <p:sp>
        <p:nvSpPr>
          <p:cNvPr id="637" name="Rounded Rectangle 25"/>
          <p:cNvSpPr/>
          <p:nvPr/>
        </p:nvSpPr>
        <p:spPr>
          <a:xfrm>
            <a:off x="506520" y="5181480"/>
            <a:ext cx="216036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EBRIEFING AND WAY FORWARD</a:t>
            </a:r>
            <a:endParaRPr b="0" lang="en-US" sz="1600" spc="-1" strike="noStrike">
              <a:solidFill>
                <a:srgbClr val="000000"/>
              </a:solidFill>
              <a:latin typeface="Calibri"/>
            </a:endParaRPr>
          </a:p>
        </p:txBody>
      </p:sp>
      <p:sp>
        <p:nvSpPr>
          <p:cNvPr id="638" name="TextBox 16"/>
          <p:cNvSpPr/>
          <p:nvPr/>
        </p:nvSpPr>
        <p:spPr>
          <a:xfrm>
            <a:off x="2971800" y="1179360"/>
            <a:ext cx="62596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prepare participants for field deployment, having a good understanding of national emergency coordination mechanisms, of the role of a RRT and responsibilities of each member, and identifying RRT stakeholders on the field.</a:t>
            </a:r>
            <a:endParaRPr b="0" lang="en-US" sz="1600" spc="-1" strike="noStrike">
              <a:solidFill>
                <a:srgbClr val="000000"/>
              </a:solidFill>
              <a:latin typeface="Calibri"/>
            </a:endParaRPr>
          </a:p>
        </p:txBody>
      </p:sp>
      <p:sp>
        <p:nvSpPr>
          <p:cNvPr id="639" name="TextBox 29"/>
          <p:cNvSpPr/>
          <p:nvPr/>
        </p:nvSpPr>
        <p:spPr>
          <a:xfrm>
            <a:off x="2971800" y="2676600"/>
            <a:ext cx="6259680" cy="58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strengthen participant’s knowledge and skills  on relevant technical areas.</a:t>
            </a:r>
            <a:endParaRPr b="0" lang="en-US" sz="1600" spc="-1" strike="noStrike">
              <a:solidFill>
                <a:srgbClr val="000000"/>
              </a:solidFill>
              <a:latin typeface="Calibri"/>
            </a:endParaRPr>
          </a:p>
        </p:txBody>
      </p:sp>
      <p:sp>
        <p:nvSpPr>
          <p:cNvPr id="640" name="TextBox 32"/>
          <p:cNvSpPr/>
          <p:nvPr/>
        </p:nvSpPr>
        <p:spPr>
          <a:xfrm>
            <a:off x="2971800" y="3852720"/>
            <a:ext cx="624348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participants: to pply and practice knwowledge and skills on the various technical areas  </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facilitators: assess participant learning through observation</a:t>
            </a:r>
            <a:endParaRPr b="0" lang="en-US" sz="1600" spc="-1" strike="noStrike">
              <a:solidFill>
                <a:srgbClr val="000000"/>
              </a:solidFill>
              <a:latin typeface="Calibri"/>
            </a:endParaRPr>
          </a:p>
        </p:txBody>
      </p:sp>
      <p:sp>
        <p:nvSpPr>
          <p:cNvPr id="641" name="TextBox 34"/>
          <p:cNvSpPr/>
          <p:nvPr/>
        </p:nvSpPr>
        <p:spPr>
          <a:xfrm>
            <a:off x="2971800" y="5092560"/>
            <a:ext cx="60958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capture key learning points and plan how to apply them when back to the job.</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engage in continuous learning and networking after the RRT trainin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38"/>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3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7"/>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0" y="19800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t of learning blocks</a:t>
            </a:r>
            <a:endParaRPr b="0" lang="en-US" sz="3600" spc="-1" strike="noStrike">
              <a:solidFill>
                <a:srgbClr val="632523"/>
              </a:solidFill>
              <a:latin typeface="Arial"/>
            </a:endParaRPr>
          </a:p>
        </p:txBody>
      </p:sp>
      <p:sp>
        <p:nvSpPr>
          <p:cNvPr id="643" name="Rounded Rectangle 13"/>
          <p:cNvSpPr/>
          <p:nvPr/>
        </p:nvSpPr>
        <p:spPr>
          <a:xfrm>
            <a:off x="4587840" y="1055520"/>
            <a:ext cx="4479840" cy="32911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C: Scenario-based skills-dril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1 RRT activate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 At the hospital: interview with medical staff</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3 At the hospital: interview with pati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4 Communication and community engagem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5 Active case finding and contact trac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a:t>
            </a:r>
            <a:r>
              <a:rPr b="0" lang="en-US" sz="1600" spc="-1" strike="noStrike">
                <a:solidFill>
                  <a:srgbClr val="000000"/>
                </a:solidFill>
                <a:latin typeface="Calibri"/>
              </a:rPr>
              <a:t>6 Safe and dignified buri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7 Investigation report</a:t>
            </a:r>
            <a:endParaRPr b="0" lang="en-US" sz="1600" spc="-1" strike="noStrike">
              <a:solidFill>
                <a:srgbClr val="000000"/>
              </a:solidFill>
              <a:latin typeface="Calibri"/>
            </a:endParaRPr>
          </a:p>
        </p:txBody>
      </p:sp>
      <p:sp>
        <p:nvSpPr>
          <p:cNvPr id="644" name="Rounded Rectangle 9"/>
          <p:cNvSpPr/>
          <p:nvPr/>
        </p:nvSpPr>
        <p:spPr>
          <a:xfrm>
            <a:off x="66600" y="3002040"/>
            <a:ext cx="4481640" cy="301788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Block B: Technical modul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 Basic epidemiology for public health practi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2 Epidemiological surveillance in publich health emergengies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3 Data management in emergenci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4 Outbreak investigation</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5 Risk assess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6 Infection Prevention &amp; Control</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7 Laboratory sample man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8 Social mobilization/community eng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9 Emergency risk communica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0 Psychogical First Aid</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B</a:t>
            </a:r>
            <a:r>
              <a:rPr b="0" lang="en-US" sz="1500" spc="-1" strike="noStrike">
                <a:solidFill>
                  <a:srgbClr val="ffffff"/>
                </a:solidFill>
                <a:latin typeface="Calibri"/>
              </a:rPr>
              <a:t>11 Safe and dignified burial</a:t>
            </a:r>
            <a:endParaRPr b="0" lang="en-US" sz="1500" spc="-1" strike="noStrike">
              <a:solidFill>
                <a:srgbClr val="000000"/>
              </a:solidFill>
              <a:latin typeface="Calibri"/>
            </a:endParaRPr>
          </a:p>
        </p:txBody>
      </p:sp>
      <p:sp>
        <p:nvSpPr>
          <p:cNvPr id="645"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Debriefing and way forward</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1 Participant satisfaction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2 participant learn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3 Learning transfer to the job</a:t>
            </a:r>
            <a:endParaRPr b="0" lang="en-US" sz="1600" spc="-1" strike="noStrike">
              <a:solidFill>
                <a:srgbClr val="000000"/>
              </a:solidFill>
              <a:latin typeface="Calibri"/>
            </a:endParaRPr>
          </a:p>
        </p:txBody>
      </p:sp>
      <p:sp>
        <p:nvSpPr>
          <p:cNvPr id="646" name="Rounded Rectangle 16"/>
          <p:cNvSpPr/>
          <p:nvPr/>
        </p:nvSpPr>
        <p:spPr>
          <a:xfrm>
            <a:off x="63360" y="105408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BLOCK A: RRT in contex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1 Frameworks for emergency respons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2 RRTs: functioning &amp;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3 Deployment  &amp; logistic requirement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4  RRT key deliverabl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5 Occupational Safety and Health</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6  Emergency Operations Centres and the Incident Management System</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3"/>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5:30:24Z</dcterms:modified>
  <cp:revision>214</cp:revision>
  <dc:subject/>
  <dc:title>Threats to Global Health Security (GHS): Case for further investments in International Health Regulations (IHR)</dc:title>
</cp:coreProperties>
</file>